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ппаратно-программное обеспеч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93372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ппаратная часть мультимедиа. МРС-стандар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92FE-A9D2-4609-9450-67183D161E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860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.1" descr=""/>
          <p:cNvPicPr/>
          <p:nvPr/>
        </p:nvPicPr>
        <p:blipFill>
          <a:blip r:embed="rId1"/>
          <a:stretch/>
        </p:blipFill>
        <p:spPr>
          <a:xfrm>
            <a:off x="431640" y="1700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а для нелинейного видеомонтаж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9242-5CB9-428C-88BE-0B56020859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3280" y="1125360"/>
          <a:ext cx="8136000" cy="5087880"/>
        </p:xfrm>
        <a:graphic>
          <a:graphicData uri="http://schemas.openxmlformats.org/drawingml/2006/table">
            <a:tbl>
              <a:tblPr/>
              <a:tblGrid>
                <a:gridCol w="4248000"/>
                <a:gridCol w="388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решение видео (дл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24 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фровой п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жатие для ка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 системы на "ввод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 SECAM 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еов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омп., 1 S-Vid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Живое" окно 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только для предва-рительного про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ифровка зв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хват ТВ -кадра без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вы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ые возм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ифровка звука и воспроиз-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мендации по исполь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линейный монтаж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H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406520" y="512640"/>
            <a:ext cx="66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озможност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us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ериферия для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D13E-1E99-490A-8689-115B623912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4680" y="34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R4_2" descr=""/>
          <p:cNvPicPr/>
          <p:nvPr/>
        </p:nvPicPr>
        <p:blipFill>
          <a:blip r:embed="rId1"/>
          <a:stretch/>
        </p:blipFill>
        <p:spPr>
          <a:xfrm>
            <a:off x="358920" y="2398680"/>
            <a:ext cx="3960720" cy="2901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УЛЬТИМЕДИЙНЫЕ ПРО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VC DL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9AD6-E6E1-4C0E-9063-F560923F2C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21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ub_02-02" descr=""/>
          <p:cNvPicPr/>
          <p:nvPr/>
        </p:nvPicPr>
        <p:blipFill>
          <a:blip r:embed="rId1"/>
          <a:stretch/>
        </p:blipFill>
        <p:spPr>
          <a:xfrm>
            <a:off x="826920" y="498600"/>
            <a:ext cx="3060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2989440" cy="307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53080" y="585720"/>
            <a:ext cx="403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явлением телевизоров на жидких кристаллах (ЖК) у разработчиков возникла остроумная мысль использовать ЖК-матрицу как основной элемент в прямом проекто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0000" y="3284640"/>
            <a:ext cx="4032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6 г.появился аппарат, разработанный американской фирмой Texas Instruments и основанный на совершенно новом принципе DLP (Digital Light Processing - цифровая обработка светового пото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4EA2-193F-4307-A14C-53316C1C09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0000" y="585720"/>
            <a:ext cx="421164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стройств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M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крис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MD-матрица представляет собой кремниевую пластину с прямоугольным массивом размещенных на ее поверхности отражающих элементов. Каждый такой элемент содержит микрозерк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T1_1" descr=""/>
          <p:cNvPicPr/>
          <p:nvPr/>
        </p:nvPicPr>
        <p:blipFill>
          <a:blip r:embed="rId1"/>
          <a:stretch/>
        </p:blipFill>
        <p:spPr>
          <a:xfrm>
            <a:off x="216000" y="1739880"/>
            <a:ext cx="41767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74F6-14E1-4922-A809-9983F1720C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6T07:33:17Z</dcterms:modified>
  <cp:revision>94</cp:revision>
  <dc:subject/>
  <dc:title>Lecture Template </dc:title>
</cp:coreProperties>
</file>